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1447920" y="1403280"/>
            <a:ext cx="7262640" cy="52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447920" y="784080"/>
            <a:ext cx="2589120" cy="49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95120" y="201600"/>
            <a:ext cx="1335240" cy="446040"/>
            <a:chOff x="195120" y="201600"/>
            <a:chExt cx="1335240" cy="446040"/>
          </a:xfrm>
        </p:grpSpPr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1346040" y="2361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38640" y="187200"/>
            <a:ext cx="53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ECT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VER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9840" y="83988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8040" y="1425600"/>
            <a:ext cx="70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y directly if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4960" y="2732040"/>
            <a:ext cx="1293840" cy="842040"/>
            <a:chOff x="1704960" y="2732040"/>
            <a:chExt cx="1293840" cy="842040"/>
          </a:xfrm>
        </p:grpSpPr>
        <p:sp>
          <p:nvSpPr>
            <p:cNvPr id="47" name=""/>
            <p:cNvSpPr/>
            <p:nvPr/>
          </p:nvSpPr>
          <p:spPr>
            <a:xfrm>
              <a:off x="1752120" y="2732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8640" y="311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04960" y="3192480"/>
              <a:ext cx="37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63240" y="2925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29720" y="2925720"/>
              <a:ext cx="4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812960" y="47829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0800" y="3684600"/>
            <a:ext cx="11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92360" y="2171880"/>
            <a:ext cx="46738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895320" y="895320"/>
            <a:ext cx="4241880" cy="3298680"/>
            <a:chOff x="895320" y="895320"/>
            <a:chExt cx="4241880" cy="329868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895320" y="895320"/>
              <a:ext cx="424188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556000" y="3616200"/>
              <a:ext cx="13698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273960" y="2142000"/>
              <a:ext cx="1947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000d"/>
                  </a:solidFill>
                  <a:latin typeface="Times New Roman"/>
                </a:rPr>
                <a:t>Banking angle (degre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297000" y="201600"/>
            <a:ext cx="4748040" cy="460440"/>
            <a:chOff x="297000" y="201600"/>
            <a:chExt cx="4748040" cy="460440"/>
          </a:xfrm>
        </p:grpSpPr>
        <p:sp>
          <p:nvSpPr>
            <p:cNvPr id="327" name=""/>
            <p:cNvSpPr/>
            <p:nvPr/>
          </p:nvSpPr>
          <p:spPr>
            <a:xfrm>
              <a:off x="1671480" y="21600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2970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17272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3760" y="4452840"/>
            <a:ext cx="64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an inverse variation model that relates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3760" y="4998960"/>
            <a:ext cx="820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model to find the banking angle for a turning radius of </a:t>
            </a:r>
            <a:r>
              <a:rPr b="1" lang="en-US" sz="2200" spc="-1" strike="noStrike">
                <a:solidFill>
                  <a:srgbClr val="0a50a1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23760" y="5519880"/>
            <a:ext cx="741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graph to describe how the banking angle changes as the turning radius gets small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86200" y="700920"/>
            <a:ext cx="3094560" cy="1380240"/>
            <a:chOff x="5686200" y="700920"/>
            <a:chExt cx="3094560" cy="1380240"/>
          </a:xfrm>
        </p:grpSpPr>
        <p:sp>
          <p:nvSpPr>
            <p:cNvPr id="334" name=""/>
            <p:cNvSpPr/>
            <p:nvPr/>
          </p:nvSpPr>
          <p:spPr>
            <a:xfrm>
              <a:off x="5689440" y="855720"/>
              <a:ext cx="1244880" cy="1225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86200" y="851040"/>
              <a:ext cx="1228680" cy="9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32" y="21"/>
                  </a:moveTo>
                  <a:arcTo wR="10800" hR="10800" stAng="-5612811" swAng="5782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32" y="21"/>
                  </a:moveTo>
                  <a:arcTo wR="10800" hR="10800" stAng="-5612811" swAng="5782356"/>
                </a:path>
              </a:pathLst>
            </a:custGeom>
            <a:noFill/>
            <a:ln w="57240">
              <a:solidFill>
                <a:srgbClr val="fe00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21600" y="1305000"/>
              <a:ext cx="658800" cy="155520"/>
            </a:xfrm>
            <a:prstGeom prst="line">
              <a:avLst/>
            </a:prstGeom>
            <a:ln w="28440">
              <a:solidFill>
                <a:srgbClr val="0a50a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0960" y="947880"/>
              <a:ext cx="4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a50a1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 rot="4612800">
              <a:off x="6615720" y="752760"/>
              <a:ext cx="98388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9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9766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75160" y="155880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372280" y="2278080"/>
            <a:ext cx="3333240" cy="2998440"/>
            <a:chOff x="5372280" y="2278080"/>
            <a:chExt cx="3333240" cy="2998440"/>
          </a:xfrm>
        </p:grpSpPr>
        <p:grpSp>
          <p:nvGrpSpPr>
            <p:cNvPr id="341" name=""/>
            <p:cNvGrpSpPr/>
            <p:nvPr/>
          </p:nvGrpSpPr>
          <p:grpSpPr>
            <a:xfrm>
              <a:off x="6159600" y="2278080"/>
              <a:ext cx="631440" cy="1616040"/>
              <a:chOff x="6159600" y="2278080"/>
              <a:chExt cx="631440" cy="1616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159600" y="2278800"/>
                <a:ext cx="0" cy="1615320"/>
              </a:xfrm>
              <a:prstGeom prst="line">
                <a:avLst/>
              </a:prstGeom>
              <a:ln w="3816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164640" y="2278080"/>
                <a:ext cx="626400" cy="1604880"/>
              </a:xfrm>
              <a:prstGeom prst="line">
                <a:avLst/>
              </a:prstGeom>
              <a:ln w="3816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372280" y="2991240"/>
              <a:ext cx="16761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38" y="60"/>
                  </a:moveTo>
                  <a:arcTo wR="10800" hR="10800" stAng="-5037048" swAng="4362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38" y="60"/>
                  </a:moveTo>
                  <a:arcTo wR="10800" hR="10800" stAng="-5037048" swAng="4362186"/>
                </a:path>
              </a:pathLst>
            </a:custGeom>
            <a:noFill/>
            <a:ln w="28440">
              <a:solidFill>
                <a:srgbClr val="fe00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8880" y="390384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000d"/>
                  </a:solidFill>
                  <a:latin typeface="Times New Roman"/>
                </a:rPr>
                <a:t>banking angle, </a:t>
              </a:r>
              <a:r>
                <a:rPr b="1" i="1" lang="en-US" sz="20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rot="5400000">
            <a:off x="495000" y="4508280"/>
            <a:ext cx="30492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495000" y="5009760"/>
            <a:ext cx="30492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95000" y="5511600"/>
            <a:ext cx="30492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23960" y="2374920"/>
            <a:ext cx="4000320" cy="79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97000" y="201600"/>
            <a:ext cx="4748040" cy="460440"/>
            <a:chOff x="297000" y="201600"/>
            <a:chExt cx="4748040" cy="460440"/>
          </a:xfrm>
        </p:grpSpPr>
        <p:sp>
          <p:nvSpPr>
            <p:cNvPr id="352" name=""/>
            <p:cNvSpPr/>
            <p:nvPr/>
          </p:nvSpPr>
          <p:spPr>
            <a:xfrm>
              <a:off x="1671480" y="21600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2970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"/>
          <p:cNvSpPr/>
          <p:nvPr/>
        </p:nvSpPr>
        <p:spPr>
          <a:xfrm>
            <a:off x="17272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640" y="2336760"/>
            <a:ext cx="41655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9160" y="2421000"/>
            <a:ext cx="3864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the graph, you can see that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1" i="1" lang="en-US" sz="2200" spc="-1" strike="noStrike">
                <a:solidFill>
                  <a:srgbClr val="0a50a1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.5 f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364760" y="3357720"/>
            <a:ext cx="1000080" cy="780120"/>
            <a:chOff x="1364760" y="3357720"/>
            <a:chExt cx="1000080" cy="780120"/>
          </a:xfrm>
        </p:grpSpPr>
        <p:sp>
          <p:nvSpPr>
            <p:cNvPr id="358" name=""/>
            <p:cNvSpPr/>
            <p:nvPr/>
          </p:nvSpPr>
          <p:spPr>
            <a:xfrm>
              <a:off x="1364760" y="35258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5920" y="33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3040" y="3773520"/>
              <a:ext cx="36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9520" y="3678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a50a1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266120" y="4106880"/>
            <a:ext cx="1231920" cy="842400"/>
            <a:chOff x="1266120" y="4106880"/>
            <a:chExt cx="1231920" cy="842400"/>
          </a:xfrm>
        </p:grpSpPr>
        <p:sp>
          <p:nvSpPr>
            <p:cNvPr id="363" name=""/>
            <p:cNvSpPr/>
            <p:nvPr/>
          </p:nvSpPr>
          <p:spPr>
            <a:xfrm>
              <a:off x="1266120" y="427356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32</a:t>
              </a:r>
              <a:r>
                <a:rPr b="0" lang="en-US" sz="2400" spc="-1" strike="noStrike">
                  <a:solidFill>
                    <a:srgbClr val="fe000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15280" y="4106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27160" y="452124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36440" y="44895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126080" y="4950000"/>
            <a:ext cx="1210680" cy="467640"/>
            <a:chOff x="1126080" y="4950000"/>
            <a:chExt cx="1210680" cy="467640"/>
          </a:xfrm>
        </p:grpSpPr>
        <p:sp>
          <p:nvSpPr>
            <p:cNvPr id="368" name=""/>
            <p:cNvSpPr/>
            <p:nvPr/>
          </p:nvSpPr>
          <p:spPr>
            <a:xfrm>
              <a:off x="1126080" y="495000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r>
                <a:rPr b="0" lang="en-US" sz="2400" spc="-1" strike="noStrike">
                  <a:solidFill>
                    <a:srgbClr val="fe000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0320" y="4957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3124080" y="4986360"/>
            <a:ext cx="148284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290840"/>
            <a:ext cx="3821400" cy="44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3560760"/>
            <a:ext cx="336096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960" y="1866960"/>
            <a:ext cx="14857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0600" y="1879560"/>
            <a:ext cx="153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278320" y="768240"/>
            <a:ext cx="3490920" cy="2714760"/>
            <a:chOff x="5278320" y="768240"/>
            <a:chExt cx="3490920" cy="271476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5278320" y="768240"/>
              <a:ext cx="349092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644880" y="3007440"/>
              <a:ext cx="11271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4766760" y="1794240"/>
              <a:ext cx="160272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000d"/>
                  </a:solidFill>
                  <a:latin typeface="Times New Roman"/>
                </a:rPr>
                <a:t>Banking angle (degre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073320" y="3517920"/>
            <a:ext cx="34797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1200" y="357984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direct variation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86280" y="4254480"/>
            <a:ext cx="39114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429084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3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fe000d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a50a1"/>
                </a:solidFill>
                <a:latin typeface="Times New Roman"/>
              </a:rPr>
              <a:t>3.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86280" y="4952880"/>
            <a:ext cx="157464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3720" y="5013360"/>
            <a:ext cx="14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6560" y="863640"/>
            <a:ext cx="3987720" cy="78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880" y="909720"/>
            <a:ext cx="3894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an inverse variation model that relates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19200" y="5402160"/>
            <a:ext cx="1511280" cy="976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24040" y="5505480"/>
            <a:ext cx="7202160" cy="804240"/>
            <a:chOff x="824040" y="5505480"/>
            <a:chExt cx="7202160" cy="804240"/>
          </a:xfrm>
        </p:grpSpPr>
        <p:sp>
          <p:nvSpPr>
            <p:cNvPr id="389" name=""/>
            <p:cNvSpPr/>
            <p:nvPr/>
          </p:nvSpPr>
          <p:spPr>
            <a:xfrm>
              <a:off x="824040" y="5673600"/>
              <a:ext cx="72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mode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in degrees 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a50a1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in fe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916360" y="5505480"/>
              <a:ext cx="637920" cy="804240"/>
              <a:chOff x="2916360" y="5505480"/>
              <a:chExt cx="637920" cy="804240"/>
            </a:xfrm>
          </p:grpSpPr>
          <p:sp>
            <p:nvSpPr>
              <p:cNvPr id="391" name=""/>
              <p:cNvSpPr/>
              <p:nvPr/>
            </p:nvSpPr>
            <p:spPr>
              <a:xfrm>
                <a:off x="2916360" y="55054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13200" y="5919840"/>
                <a:ext cx="50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83040" y="585000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a50a1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 rot="5400000">
            <a:off x="342720" y="914040"/>
            <a:ext cx="30492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27200" y="3767040"/>
            <a:ext cx="5357520" cy="47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7200" y="1614600"/>
            <a:ext cx="4224240" cy="795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97000" y="201600"/>
            <a:ext cx="4748040" cy="460440"/>
            <a:chOff x="297000" y="201600"/>
            <a:chExt cx="4748040" cy="460440"/>
          </a:xfrm>
        </p:grpSpPr>
        <p:sp>
          <p:nvSpPr>
            <p:cNvPr id="399" name=""/>
            <p:cNvSpPr/>
            <p:nvPr/>
          </p:nvSpPr>
          <p:spPr>
            <a:xfrm>
              <a:off x="1671480" y="21600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2970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17272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7200" y="3260880"/>
            <a:ext cx="154944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72560" y="3286080"/>
            <a:ext cx="153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1480" y="1658880"/>
            <a:ext cx="425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model to find the banking angle for a turning radius of 5 f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733920"/>
            <a:ext cx="54990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70040" y="3792600"/>
            <a:ext cx="531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itute </a:t>
            </a:r>
            <a:r>
              <a:rPr b="1" lang="en-US" sz="2200" spc="-1" strike="noStrike">
                <a:solidFill>
                  <a:srgbClr val="0a50a1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200" spc="-1" strike="noStrike">
                <a:solidFill>
                  <a:srgbClr val="0a50a1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model you just fou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656800" y="4578480"/>
            <a:ext cx="2069280" cy="830880"/>
            <a:chOff x="2656800" y="4578480"/>
            <a:chExt cx="2069280" cy="830880"/>
          </a:xfrm>
        </p:grpSpPr>
        <p:sp>
          <p:nvSpPr>
            <p:cNvPr id="408" name=""/>
            <p:cNvSpPr/>
            <p:nvPr/>
          </p:nvSpPr>
          <p:spPr>
            <a:xfrm>
              <a:off x="2656800" y="474660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03640" y="457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33600" y="4994280"/>
              <a:ext cx="36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2160" y="494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a50a1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63440" y="474012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2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283360" y="914400"/>
            <a:ext cx="3466800" cy="2692440"/>
            <a:chOff x="5283360" y="914400"/>
            <a:chExt cx="3466800" cy="2692440"/>
          </a:xfrm>
        </p:grpSpPr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5283360" y="914400"/>
              <a:ext cx="346680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645240" y="3146400"/>
              <a:ext cx="11271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4768200" y="1933920"/>
              <a:ext cx="16016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000d"/>
                  </a:solidFill>
                  <a:latin typeface="Times New Roman"/>
                </a:rPr>
                <a:t>Banking angle (degrees</a:t>
              </a:r>
              <a:r>
                <a:rPr b="1" lang="en-US" sz="12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 rot="5400000">
            <a:off x="342720" y="1650600"/>
            <a:ext cx="30492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88360" y="5454720"/>
            <a:ext cx="826920" cy="658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10000" y="5562720"/>
            <a:ext cx="74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turning radius is 5 feet, the banking angle is about 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96960" y="2286000"/>
            <a:ext cx="376884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97000" y="201600"/>
            <a:ext cx="4748040" cy="460440"/>
            <a:chOff x="297000" y="201600"/>
            <a:chExt cx="4748040" cy="460440"/>
          </a:xfrm>
        </p:grpSpPr>
        <p:sp>
          <p:nvSpPr>
            <p:cNvPr id="423" name=""/>
            <p:cNvSpPr/>
            <p:nvPr/>
          </p:nvSpPr>
          <p:spPr>
            <a:xfrm>
              <a:off x="1671480" y="21600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970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"/>
          <p:cNvSpPr/>
          <p:nvPr/>
        </p:nvSpPr>
        <p:spPr>
          <a:xfrm>
            <a:off x="17272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3040" y="2349360"/>
            <a:ext cx="376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graph to describe how the banking angle changes as the turning radius gets small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6960" y="3576600"/>
            <a:ext cx="153648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4120" y="3602160"/>
            <a:ext cx="153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3040" y="4270320"/>
            <a:ext cx="6313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the turning radius gets smaller,  the banking angle becomes greater. The bicyclist leans at greater ang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3040" y="5241960"/>
            <a:ext cx="6502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ce that the increase in the banking angle becomes more rapid when the turning radius is sm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342720" y="2349360"/>
            <a:ext cx="304560" cy="29232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3040" y="4270320"/>
            <a:ext cx="6313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the turning radius gets </a:t>
            </a:r>
            <a:r>
              <a:rPr b="1" lang="en-US" sz="2200" spc="-1" strike="noStrike">
                <a:solidFill>
                  <a:srgbClr val="0a50a1"/>
                </a:solidFill>
                <a:latin typeface="Times New Roman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the banking angle becomes greater. The bicyclist leans at greater ang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3040" y="4270320"/>
            <a:ext cx="6313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the turning radius gets smaller,  the banking angle becomes </a:t>
            </a:r>
            <a:r>
              <a:rPr b="1" lang="en-US" sz="2200" spc="-1" strike="noStrike">
                <a:solidFill>
                  <a:srgbClr val="fe000d"/>
                </a:solidFill>
                <a:latin typeface="Times New Roman"/>
              </a:rPr>
              <a:t>gre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The bicyclist leans at greater ang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3040" y="4270320"/>
            <a:ext cx="6313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the turning radius gets smaller,  the banking angle becomes greater. The bicyclist leans at greater ang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4881600" y="878040"/>
            <a:ext cx="3849480" cy="29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5838840" y="965160"/>
            <a:ext cx="1440" cy="1782720"/>
          </a:xfrm>
          <a:prstGeom prst="line">
            <a:avLst/>
          </a:prstGeom>
          <a:ln w="25560">
            <a:solidFill>
              <a:srgbClr val="fe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854320" y="2932200"/>
            <a:ext cx="2637000" cy="0"/>
          </a:xfrm>
          <a:prstGeom prst="line">
            <a:avLst/>
          </a:prstGeom>
          <a:ln w="25560">
            <a:solidFill>
              <a:srgbClr val="0a5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61960" y="1444680"/>
            <a:ext cx="7275600" cy="5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1960" y="851040"/>
            <a:ext cx="2859120" cy="496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95120" y="201600"/>
            <a:ext cx="1335240" cy="446040"/>
            <a:chOff x="195120" y="201600"/>
            <a:chExt cx="1335240" cy="4460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46040" y="2361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8640" y="187200"/>
            <a:ext cx="53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ECT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VER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9000" y="91440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IR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498680"/>
            <a:ext cx="70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y inversely, if for a 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844640" y="2668680"/>
            <a:ext cx="1230480" cy="842040"/>
            <a:chOff x="1844640" y="2668680"/>
            <a:chExt cx="1230480" cy="842040"/>
          </a:xfrm>
        </p:grpSpPr>
        <p:sp>
          <p:nvSpPr>
            <p:cNvPr id="65" name=""/>
            <p:cNvSpPr/>
            <p:nvPr/>
          </p:nvSpPr>
          <p:spPr>
            <a:xfrm>
              <a:off x="1891800" y="2668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58320" y="305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4640" y="3128760"/>
              <a:ext cx="37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7720" y="2862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06040" y="2862000"/>
              <a:ext cx="4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63720" y="47703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3840" y="3735360"/>
            <a:ext cx="98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32040" y="2260440"/>
            <a:ext cx="4673880" cy="375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195120" y="201600"/>
            <a:ext cx="1335240" cy="446040"/>
            <a:chOff x="195120" y="201600"/>
            <a:chExt cx="1335240" cy="4460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346040" y="2361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38640" y="187200"/>
            <a:ext cx="53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ECT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VER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76360" y="803160"/>
            <a:ext cx="7261200" cy="5257800"/>
            <a:chOff x="1476360" y="803160"/>
            <a:chExt cx="7261200" cy="5257800"/>
          </a:xfrm>
        </p:grpSpPr>
        <p:grpSp>
          <p:nvGrpSpPr>
            <p:cNvPr id="81" name=""/>
            <p:cNvGrpSpPr/>
            <p:nvPr/>
          </p:nvGrpSpPr>
          <p:grpSpPr>
            <a:xfrm>
              <a:off x="1476360" y="803160"/>
              <a:ext cx="7256520" cy="5257800"/>
              <a:chOff x="1476360" y="803160"/>
              <a:chExt cx="7256520" cy="5257800"/>
            </a:xfrm>
          </p:grpSpPr>
          <p:sp>
            <p:nvSpPr>
              <p:cNvPr id="82" name=""/>
              <p:cNvSpPr/>
              <p:nvPr/>
            </p:nvSpPr>
            <p:spPr>
              <a:xfrm>
                <a:off x="1476360" y="803160"/>
                <a:ext cx="7253280" cy="525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761609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79600" y="804960"/>
                <a:ext cx="7253280" cy="380880"/>
              </a:xfrm>
              <a:prstGeom prst="rect">
                <a:avLst/>
              </a:prstGeom>
              <a:solidFill>
                <a:srgbClr val="058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509840" y="826920"/>
              <a:ext cx="722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DELS FOR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RECT AND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VERS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917720" y="1479600"/>
            <a:ext cx="2792520" cy="42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11960" y="1479600"/>
            <a:ext cx="2770200" cy="42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VE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0160" y="2268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2920" y="28526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390720" y="2100240"/>
            <a:ext cx="1027440" cy="807120"/>
            <a:chOff x="6390720" y="2100240"/>
            <a:chExt cx="1027440" cy="807120"/>
          </a:xfrm>
        </p:grpSpPr>
        <p:sp>
          <p:nvSpPr>
            <p:cNvPr id="90" name=""/>
            <p:cNvSpPr/>
            <p:nvPr/>
          </p:nvSpPr>
          <p:spPr>
            <a:xfrm>
              <a:off x="7073280" y="2100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2760" y="2447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38720" y="2525400"/>
              <a:ext cx="37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5400" y="2284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0720" y="2261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484680" y="290520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11960" y="3533760"/>
            <a:ext cx="2806560" cy="225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17720" y="3533760"/>
            <a:ext cx="28065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41640" y="4911840"/>
            <a:ext cx="111924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41640" y="4102200"/>
            <a:ext cx="349416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41640" y="3257640"/>
            <a:ext cx="336096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760" y="2438280"/>
            <a:ext cx="14983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760" y="1704960"/>
            <a:ext cx="281448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2760" y="728640"/>
            <a:ext cx="7221240" cy="80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7840" y="117360"/>
            <a:ext cx="5279760" cy="460440"/>
            <a:chOff x="177840" y="117360"/>
            <a:chExt cx="5279760" cy="460440"/>
          </a:xfrm>
        </p:grpSpPr>
        <p:sp>
          <p:nvSpPr>
            <p:cNvPr id="106" name=""/>
            <p:cNvSpPr/>
            <p:nvPr/>
          </p:nvSpPr>
          <p:spPr>
            <a:xfrm>
              <a:off x="1555200" y="154080"/>
              <a:ext cx="39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Direct and Inverse Va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0600" y="16732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y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3840" y="2463840"/>
            <a:ext cx="153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46360" y="3009960"/>
            <a:ext cx="1192320" cy="853200"/>
            <a:chOff x="1746360" y="3009960"/>
            <a:chExt cx="1192320" cy="853200"/>
          </a:xfrm>
        </p:grpSpPr>
        <p:sp>
          <p:nvSpPr>
            <p:cNvPr id="112" name=""/>
            <p:cNvSpPr/>
            <p:nvPr/>
          </p:nvSpPr>
          <p:spPr>
            <a:xfrm>
              <a:off x="1767960" y="3009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46360" y="340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f62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1800" y="347004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9440" y="3203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46280" y="32032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68680" y="3852720"/>
            <a:ext cx="1170000" cy="853560"/>
            <a:chOff x="1768680" y="3852720"/>
            <a:chExt cx="1170000" cy="853560"/>
          </a:xfrm>
        </p:grpSpPr>
        <p:sp>
          <p:nvSpPr>
            <p:cNvPr id="118" name=""/>
            <p:cNvSpPr/>
            <p:nvPr/>
          </p:nvSpPr>
          <p:spPr>
            <a:xfrm>
              <a:off x="1768680" y="385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9840" y="424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f62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12960" y="427968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9440" y="404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6280" y="4046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01080" y="4854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4640" y="660240"/>
            <a:ext cx="736632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45200" y="782640"/>
            <a:ext cx="7014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2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4. Find an equation that relat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3600" y="3174840"/>
            <a:ext cx="349236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8760" y="327672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direct variation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3600" y="4025880"/>
            <a:ext cx="369576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8400" y="4073400"/>
            <a:ext cx="34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f62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008f62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851360"/>
            <a:ext cx="12700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3440" y="4938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45200" y="5346720"/>
            <a:ext cx="1227240" cy="8859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0400" y="5372280"/>
            <a:ext cx="6586200" cy="853200"/>
            <a:chOff x="1670400" y="5372280"/>
            <a:chExt cx="6586200" cy="853200"/>
          </a:xfrm>
        </p:grpSpPr>
        <p:sp>
          <p:nvSpPr>
            <p:cNvPr id="134" name=""/>
            <p:cNvSpPr/>
            <p:nvPr/>
          </p:nvSpPr>
          <p:spPr>
            <a:xfrm>
              <a:off x="1670400" y="5559120"/>
              <a:ext cx="65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 equation that relat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     = 2, or y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2200" y="537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9880" y="5765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26040" y="5832360"/>
              <a:ext cx="26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50960" y="1859040"/>
            <a:ext cx="288468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7840" y="114480"/>
            <a:ext cx="5279760" cy="460080"/>
            <a:chOff x="177840" y="114480"/>
            <a:chExt cx="5279760" cy="460080"/>
          </a:xfrm>
        </p:grpSpPr>
        <p:sp>
          <p:nvSpPr>
            <p:cNvPr id="141" name=""/>
            <p:cNvSpPr/>
            <p:nvPr/>
          </p:nvSpPr>
          <p:spPr>
            <a:xfrm>
              <a:off x="1555200" y="150840"/>
              <a:ext cx="39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Direct and Inverse Va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4480"/>
              <a:ext cx="1387440" cy="4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668600" y="51264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49520" y="182736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y inver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50960" y="770040"/>
            <a:ext cx="7196040" cy="79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50960" y="2644920"/>
            <a:ext cx="14605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0960" y="2657520"/>
            <a:ext cx="1433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6320" y="4854600"/>
            <a:ext cx="111924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6320" y="4184640"/>
            <a:ext cx="3481560" cy="442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6320" y="3441600"/>
            <a:ext cx="3462480" cy="44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1920" y="339552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f62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2520" y="413856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77280" y="484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736560"/>
            <a:ext cx="73026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43760" y="833400"/>
            <a:ext cx="701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2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4. Find an equation that relat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2200" y="3340080"/>
            <a:ext cx="361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2720" y="346068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Write inverse variation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051440"/>
            <a:ext cx="361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3080" y="4156200"/>
            <a:ext cx="34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008f62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2960" y="4775040"/>
            <a:ext cx="1307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8120" y="48816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2080" y="5364000"/>
            <a:ext cx="1344600" cy="8496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26840" y="5433840"/>
            <a:ext cx="6629040" cy="798120"/>
            <a:chOff x="1626840" y="5433840"/>
            <a:chExt cx="6629040" cy="798120"/>
          </a:xfrm>
        </p:grpSpPr>
        <p:sp>
          <p:nvSpPr>
            <p:cNvPr id="164" name=""/>
            <p:cNvSpPr/>
            <p:nvPr/>
          </p:nvSpPr>
          <p:spPr>
            <a:xfrm>
              <a:off x="1626840" y="5540400"/>
              <a:ext cx="66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 equation that relat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8, 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599240" y="5433840"/>
              <a:ext cx="344520" cy="798120"/>
              <a:chOff x="7599240" y="5433840"/>
              <a:chExt cx="344520" cy="798120"/>
            </a:xfrm>
          </p:grpSpPr>
          <p:sp>
            <p:nvSpPr>
              <p:cNvPr id="166" name=""/>
              <p:cNvSpPr/>
              <p:nvPr/>
            </p:nvSpPr>
            <p:spPr>
              <a:xfrm>
                <a:off x="7610760" y="5433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99240" y="5772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655040" y="58388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65280" y="3333600"/>
            <a:ext cx="3186000" cy="112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7840" y="114480"/>
            <a:ext cx="5851800" cy="460080"/>
            <a:chOff x="177840" y="114480"/>
            <a:chExt cx="5851800" cy="460080"/>
          </a:xfrm>
        </p:grpSpPr>
        <p:sp>
          <p:nvSpPr>
            <p:cNvPr id="172" name=""/>
            <p:cNvSpPr/>
            <p:nvPr/>
          </p:nvSpPr>
          <p:spPr>
            <a:xfrm>
              <a:off x="1555920" y="150840"/>
              <a:ext cx="44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aring Direct and Inverse Va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77840" y="114480"/>
              <a:ext cx="1387800" cy="4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1668600" y="51264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65280" y="770040"/>
            <a:ext cx="7205760" cy="79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5280" y="1841400"/>
            <a:ext cx="1511280" cy="66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5280" y="1955880"/>
            <a:ext cx="149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65280" y="4807080"/>
            <a:ext cx="3191040" cy="1123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6880" y="4813200"/>
            <a:ext cx="318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Inverse Variation: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a50a1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f6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doubles (from 1 to 2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s halved (from 8 to 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88040" y="2946240"/>
            <a:ext cx="3228840" cy="3046680"/>
            <a:chOff x="5288040" y="2946240"/>
            <a:chExt cx="3228840" cy="3046680"/>
          </a:xfrm>
        </p:grpSpPr>
        <p:grpSp>
          <p:nvGrpSpPr>
            <p:cNvPr id="181" name=""/>
            <p:cNvGrpSpPr/>
            <p:nvPr/>
          </p:nvGrpSpPr>
          <p:grpSpPr>
            <a:xfrm>
              <a:off x="5313960" y="4869000"/>
              <a:ext cx="865440" cy="742320"/>
              <a:chOff x="5313960" y="4869000"/>
              <a:chExt cx="865440" cy="742320"/>
            </a:xfrm>
          </p:grpSpPr>
          <p:sp>
            <p:nvSpPr>
              <p:cNvPr id="182" name=""/>
              <p:cNvSpPr/>
              <p:nvPr/>
            </p:nvSpPr>
            <p:spPr>
              <a:xfrm>
                <a:off x="5846400" y="486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19040" y="5151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008f62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91040" y="5240160"/>
                <a:ext cx="26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13960" y="500220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88040" y="2946240"/>
              <a:ext cx="3228840" cy="3046680"/>
              <a:chOff x="5288040" y="2946240"/>
              <a:chExt cx="3228840" cy="30466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288040" y="2957400"/>
                <a:ext cx="3228840" cy="3033720"/>
                <a:chOff x="5288040" y="2957400"/>
                <a:chExt cx="3228840" cy="3033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88040" y="2957400"/>
                  <a:ext cx="3228840" cy="30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99200" y="3376440"/>
                  <a:ext cx="320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00640" y="4627440"/>
                  <a:ext cx="320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302520" y="2957400"/>
                <a:ext cx="1665000" cy="3035520"/>
                <a:chOff x="6302520" y="2957400"/>
                <a:chExt cx="1665000" cy="30355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302520" y="2957400"/>
                  <a:ext cx="0" cy="303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56560" y="2957400"/>
                  <a:ext cx="0" cy="303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12040" y="2957400"/>
                  <a:ext cx="0" cy="303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67520" y="2957400"/>
                  <a:ext cx="0" cy="303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613480" y="29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15760" y="377352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2</a:t>
                </a:r>
                <a:r>
                  <a:rPr b="1" i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08720" y="29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70680" y="29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31200" y="29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80560" y="29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08720" y="377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70680" y="377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31200" y="377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080560" y="377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08720" y="497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72480" y="497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80560" y="497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524720" y="4857840"/>
              <a:ext cx="343800" cy="764280"/>
              <a:chOff x="7524720" y="4857840"/>
              <a:chExt cx="343800" cy="764280"/>
            </a:xfrm>
          </p:grpSpPr>
          <p:sp>
            <p:nvSpPr>
              <p:cNvPr id="210" name=""/>
              <p:cNvSpPr/>
              <p:nvPr/>
            </p:nvSpPr>
            <p:spPr>
              <a:xfrm>
                <a:off x="7524720" y="4857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35520" y="5162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69000" y="5229360"/>
                <a:ext cx="26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432240" y="1841400"/>
            <a:ext cx="5338800" cy="66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87440" y="681120"/>
            <a:ext cx="7480440" cy="10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0600" y="801720"/>
            <a:ext cx="68979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direct variation model and the in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model you just found using </a:t>
            </a:r>
            <a:r>
              <a:rPr b="1" i="1" lang="en-US" sz="2400" spc="-1" strike="noStrike">
                <a:solidFill>
                  <a:srgbClr val="008f62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8f62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3320" y="1773360"/>
            <a:ext cx="551160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72920" y="1795320"/>
            <a:ext cx="4847400" cy="742320"/>
            <a:chOff x="3472920" y="1795320"/>
            <a:chExt cx="4847400" cy="742320"/>
          </a:xfrm>
        </p:grpSpPr>
        <p:sp>
          <p:nvSpPr>
            <p:cNvPr id="218" name=""/>
            <p:cNvSpPr/>
            <p:nvPr/>
          </p:nvSpPr>
          <p:spPr>
            <a:xfrm>
              <a:off x="3472920" y="192708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 a table using </a:t>
              </a:r>
              <a:r>
                <a:rPr b="0" i="1" lang="en-US" sz="2400" spc="-1" strike="noStrike">
                  <a:solidFill>
                    <a:srgbClr val="9900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r>
                <a:rPr b="1" i="1" lang="en-US" sz="2400" spc="-1" strike="noStrike">
                  <a:solidFill>
                    <a:srgbClr val="008f62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9900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721280" y="1795320"/>
              <a:ext cx="373320" cy="742320"/>
              <a:chOff x="7721280" y="1795320"/>
              <a:chExt cx="373320" cy="742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761600" y="179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21280" y="20779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008f62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05880" y="21668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1488960" y="3246480"/>
            <a:ext cx="3353040" cy="12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3920" y="3454560"/>
            <a:ext cx="284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Arial"/>
              </a:rPr>
              <a:t>Direct Variation: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a50a1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f6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ncreases by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0a1"/>
                </a:solidFill>
                <a:latin typeface="Arial"/>
              </a:rPr>
              <a:t>increases by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92800" y="2952720"/>
            <a:ext cx="56520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92800" y="3378240"/>
            <a:ext cx="565200" cy="1244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92800" y="2952720"/>
            <a:ext cx="56520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92800" y="4622760"/>
            <a:ext cx="565200" cy="137160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1520" y="2952720"/>
            <a:ext cx="56520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1520" y="3378240"/>
            <a:ext cx="565200" cy="1244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1520" y="2952720"/>
            <a:ext cx="56520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1520" y="4622760"/>
            <a:ext cx="565200" cy="137160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10600" y="2952720"/>
            <a:ext cx="56484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10600" y="3378240"/>
            <a:ext cx="564840" cy="1244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10600" y="2952720"/>
            <a:ext cx="56484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10600" y="4622760"/>
            <a:ext cx="564840" cy="137160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56720" y="2952720"/>
            <a:ext cx="56484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6720" y="3378240"/>
            <a:ext cx="564840" cy="1244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2952720"/>
            <a:ext cx="564840" cy="42552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56720" y="4622760"/>
            <a:ext cx="564840" cy="1371600"/>
          </a:xfrm>
          <a:prstGeom prst="rect">
            <a:avLst/>
          </a:prstGeom>
          <a:noFill/>
          <a:ln w="28440">
            <a:solidFill>
              <a:srgbClr val="fe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72280" y="2705040"/>
            <a:ext cx="350496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54200" y="770040"/>
            <a:ext cx="7205760" cy="79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28640" y="1803240"/>
            <a:ext cx="151128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4200" y="1828800"/>
            <a:ext cx="149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21160" y="1803240"/>
            <a:ext cx="5338800" cy="825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681120"/>
            <a:ext cx="7480440" cy="10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49160" y="801720"/>
            <a:ext cx="6879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direct variation model and the in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model you just found using </a:t>
            </a:r>
            <a:r>
              <a:rPr b="0" i="1" lang="en-US" sz="2400" spc="-1" strike="noStrike">
                <a:solidFill>
                  <a:srgbClr val="008f62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8f6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8f6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8f62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8f62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44840" y="1747800"/>
            <a:ext cx="549900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38360" y="2743200"/>
            <a:ext cx="3378240" cy="1123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7840" y="114480"/>
            <a:ext cx="5851800" cy="460080"/>
            <a:chOff x="177840" y="114480"/>
            <a:chExt cx="5851800" cy="460080"/>
          </a:xfrm>
        </p:grpSpPr>
        <p:sp>
          <p:nvSpPr>
            <p:cNvPr id="252" name=""/>
            <p:cNvSpPr/>
            <p:nvPr/>
          </p:nvSpPr>
          <p:spPr>
            <a:xfrm>
              <a:off x="1555920" y="150840"/>
              <a:ext cx="44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aring Direct and Inverse Va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177840" y="114480"/>
              <a:ext cx="1387800" cy="4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1668600" y="51264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5440" y="1855800"/>
            <a:ext cx="500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the points and then connect the points with a smooth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39800" y="4133880"/>
            <a:ext cx="3382920" cy="19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4720" y="4227480"/>
            <a:ext cx="3265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Inverse Variation: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The graph for this model is a curve that gets closer and closer to the </a:t>
            </a:r>
            <a:br>
              <a:rPr sz="1800"/>
            </a:b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-axis as </a:t>
            </a: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increases and closer and closer to the </a:t>
            </a: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-axis as </a:t>
            </a:r>
            <a:r>
              <a:rPr b="1" i="1" lang="en-US" sz="2000" spc="-1" strike="noStrike">
                <a:solidFill>
                  <a:srgbClr val="0a50a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gets close to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850000" y="2738520"/>
            <a:ext cx="1515960" cy="3002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107040" y="2766960"/>
            <a:ext cx="2725920" cy="273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74640" y="2692440"/>
            <a:ext cx="350532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4720" y="282888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50a1"/>
                </a:solidFill>
                <a:latin typeface="Arial"/>
              </a:rPr>
              <a:t>Direct Variation:</a:t>
            </a:r>
            <a:r>
              <a:rPr b="0" lang="en-US" sz="1800" spc="-1" strike="noStrike">
                <a:solidFill>
                  <a:srgbClr val="0a50a1"/>
                </a:solidFill>
                <a:latin typeface="Arial"/>
              </a:rPr>
              <a:t> the graph for this model is a line passing through the ori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21440" y="5048280"/>
            <a:ext cx="101520" cy="101520"/>
          </a:xfrm>
          <a:prstGeom prst="ellipse">
            <a:avLst/>
          </a:prstGeom>
          <a:solidFill>
            <a:srgbClr val="fe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58040" y="4381560"/>
            <a:ext cx="101520" cy="101520"/>
          </a:xfrm>
          <a:prstGeom prst="ellipse">
            <a:avLst/>
          </a:prstGeom>
          <a:solidFill>
            <a:srgbClr val="fe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8160" y="3714840"/>
            <a:ext cx="101520" cy="101520"/>
          </a:xfrm>
          <a:prstGeom prst="ellipse">
            <a:avLst/>
          </a:prstGeom>
          <a:solidFill>
            <a:srgbClr val="fe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12160" y="3054240"/>
            <a:ext cx="101520" cy="101880"/>
          </a:xfrm>
          <a:prstGeom prst="ellipse">
            <a:avLst/>
          </a:prstGeom>
          <a:solidFill>
            <a:srgbClr val="fe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14960" y="3041640"/>
            <a:ext cx="101520" cy="101520"/>
          </a:xfrm>
          <a:prstGeom prst="ellips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58040" y="4381560"/>
            <a:ext cx="101520" cy="101520"/>
          </a:xfrm>
          <a:prstGeom prst="ellips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00600"/>
            <a:ext cx="101880" cy="101520"/>
          </a:xfrm>
          <a:prstGeom prst="ellips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05680" y="5029200"/>
            <a:ext cx="101520" cy="101520"/>
          </a:xfrm>
          <a:prstGeom prst="ellips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72280" y="3448080"/>
            <a:ext cx="576360" cy="43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000d"/>
                </a:solidFill>
                <a:latin typeface="Arial"/>
              </a:rPr>
              <a:t>y</a:t>
            </a:r>
            <a:r>
              <a:rPr b="1" i="1" lang="en-US" sz="1000" spc="-1" strike="noStrike">
                <a:solidFill>
                  <a:srgbClr val="fe000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000d"/>
                </a:solidFill>
                <a:latin typeface="Arial"/>
              </a:rPr>
              <a:t>=</a:t>
            </a:r>
            <a:r>
              <a:rPr b="1" i="1" lang="en-US" sz="1000" spc="-1" strike="noStrike">
                <a:solidFill>
                  <a:srgbClr val="fe000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000d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fe000d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962840" y="4584600"/>
            <a:ext cx="814320" cy="685080"/>
            <a:chOff x="7962840" y="4584600"/>
            <a:chExt cx="814320" cy="685080"/>
          </a:xfrm>
        </p:grpSpPr>
        <p:sp>
          <p:nvSpPr>
            <p:cNvPr id="272" name=""/>
            <p:cNvSpPr/>
            <p:nvPr/>
          </p:nvSpPr>
          <p:spPr>
            <a:xfrm>
              <a:off x="7962840" y="4584600"/>
              <a:ext cx="812880" cy="60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10360" y="4603680"/>
              <a:ext cx="76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8024760" y="4797360"/>
              <a:ext cx="597240" cy="472320"/>
              <a:chOff x="8024760" y="4797360"/>
              <a:chExt cx="597240" cy="4723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8323200" y="4824360"/>
                <a:ext cx="298800" cy="445320"/>
                <a:chOff x="8323200" y="4824360"/>
                <a:chExt cx="298800" cy="4453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342280" y="4824360"/>
                  <a:ext cx="2797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e000d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323200" y="4962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e000d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16800" y="5029200"/>
                  <a:ext cx="130320" cy="0"/>
                </a:xfrm>
                <a:prstGeom prst="line">
                  <a:avLst/>
                </a:prstGeom>
                <a:ln w="12600">
                  <a:solidFill>
                    <a:srgbClr val="fe00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8024760" y="4797360"/>
                <a:ext cx="4320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e000d"/>
                    </a:solidFill>
                    <a:latin typeface="Arial"/>
                  </a:rPr>
                  <a:t>y</a:t>
                </a:r>
                <a:r>
                  <a:rPr b="1" i="1" lang="en-US" sz="1000" spc="-1" strike="noStrike">
                    <a:solidFill>
                      <a:srgbClr val="fe000d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e000d"/>
                    </a:solidFill>
                    <a:latin typeface="Arial"/>
                  </a:rPr>
                  <a:t>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006880" y="1455840"/>
            <a:ext cx="2957760" cy="4195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73200" y="1511280"/>
            <a:ext cx="382248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620720"/>
            <a:ext cx="37144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f62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8f62"/>
                </a:solidFill>
                <a:latin typeface="Arial"/>
              </a:rPr>
              <a:t>ICYCLING</a:t>
            </a:r>
            <a:r>
              <a:rPr b="1" lang="en-US" sz="2000" spc="-1" strike="noStrike">
                <a:solidFill>
                  <a:srgbClr val="03bb7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icyclist tip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icycle when making turn. The angle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the bicycle from the vertical direction is called the </a:t>
            </a:r>
            <a:r>
              <a:rPr b="0" i="1" lang="en-US" sz="2200" spc="-1" strike="noStrike">
                <a:solidFill>
                  <a:srgbClr val="fe000d"/>
                </a:solidFill>
                <a:latin typeface="Times New Roman"/>
              </a:rPr>
              <a:t>banking angl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46760" y="212760"/>
            <a:ext cx="715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ECT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VER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ATION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39720" y="722160"/>
            <a:ext cx="4748040" cy="460440"/>
            <a:chOff x="639720" y="722160"/>
            <a:chExt cx="4748040" cy="460440"/>
          </a:xfrm>
        </p:grpSpPr>
        <p:sp>
          <p:nvSpPr>
            <p:cNvPr id="288" name=""/>
            <p:cNvSpPr/>
            <p:nvPr/>
          </p:nvSpPr>
          <p:spPr>
            <a:xfrm>
              <a:off x="2014200" y="73656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639720" y="722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2070000" y="1130400"/>
            <a:ext cx="66675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997520" y="1460520"/>
            <a:ext cx="2962080" cy="420372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5869080" y="1515960"/>
            <a:ext cx="1531440" cy="3924360"/>
            <a:chOff x="5869080" y="1515960"/>
            <a:chExt cx="1531440" cy="3924360"/>
          </a:xfrm>
        </p:grpSpPr>
        <p:sp>
          <p:nvSpPr>
            <p:cNvPr id="293" name=""/>
            <p:cNvSpPr/>
            <p:nvPr/>
          </p:nvSpPr>
          <p:spPr>
            <a:xfrm>
              <a:off x="5869080" y="1517760"/>
              <a:ext cx="0" cy="3922560"/>
            </a:xfrm>
            <a:prstGeom prst="line">
              <a:avLst/>
            </a:prstGeom>
            <a:ln w="3816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81680" y="1515960"/>
              <a:ext cx="1518840" cy="3897360"/>
            </a:xfrm>
            <a:prstGeom prst="line">
              <a:avLst/>
            </a:prstGeom>
            <a:ln w="38160">
              <a:solidFill>
                <a:srgbClr val="008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2960" y="4568040"/>
            <a:ext cx="3031560" cy="228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19" y="24"/>
                </a:moveTo>
                <a:arcTo wR="10800" hR="10800" stAng="-5170944" swAng="5262266"/>
                <a:lnTo>
                  <a:pt x="10800" y="10800"/>
                </a:lnTo>
                <a:close/>
              </a:path>
              <a:path fill="none" w="21600" h="21600">
                <a:moveTo>
                  <a:pt x="11519" y="24"/>
                </a:moveTo>
                <a:arcTo wR="10800" hR="10800" stAng="-5170944" swAng="5262266"/>
              </a:path>
            </a:pathLst>
          </a:custGeom>
          <a:noFill/>
          <a:ln w="28440">
            <a:solidFill>
              <a:srgbClr val="fe000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12040" y="5788080"/>
            <a:ext cx="20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000d"/>
                </a:solidFill>
                <a:latin typeface="Times New Roman"/>
              </a:rPr>
              <a:t>banking angle,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800280"/>
            <a:ext cx="7785000" cy="144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79640" y="843120"/>
            <a:ext cx="7646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f62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8f62"/>
                </a:solidFill>
                <a:latin typeface="Arial"/>
              </a:rPr>
              <a:t>ICYCLING</a:t>
            </a:r>
            <a:r>
              <a:rPr b="1" lang="en-US" sz="2000" spc="-1" strike="noStrike">
                <a:solidFill>
                  <a:srgbClr val="008f6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graph below shows a model for the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the banking angle and the turning radius for a bicycl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veling at a particular speed. For the values shown, the bank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gle 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turning radius </a:t>
            </a:r>
            <a:r>
              <a:rPr b="1" i="1" lang="en-US" sz="2400" spc="-1" strike="noStrike">
                <a:solidFill>
                  <a:srgbClr val="0a50a1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y inverse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7000" y="201600"/>
            <a:ext cx="4748040" cy="460440"/>
            <a:chOff x="297000" y="201600"/>
            <a:chExt cx="4748040" cy="460440"/>
          </a:xfrm>
        </p:grpSpPr>
        <p:sp>
          <p:nvSpPr>
            <p:cNvPr id="301" name=""/>
            <p:cNvSpPr/>
            <p:nvPr/>
          </p:nvSpPr>
          <p:spPr>
            <a:xfrm>
              <a:off x="1671480" y="21600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riting and Using a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297000" y="20160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727280" y="609480"/>
            <a:ext cx="7035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724360" y="2504160"/>
            <a:ext cx="3094560" cy="1380600"/>
            <a:chOff x="5724360" y="2504160"/>
            <a:chExt cx="3094560" cy="1380600"/>
          </a:xfrm>
        </p:grpSpPr>
        <p:sp>
          <p:nvSpPr>
            <p:cNvPr id="305" name=""/>
            <p:cNvSpPr/>
            <p:nvPr/>
          </p:nvSpPr>
          <p:spPr>
            <a:xfrm>
              <a:off x="5727600" y="2658960"/>
              <a:ext cx="1244880" cy="122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24360" y="2654280"/>
              <a:ext cx="1228680" cy="9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32" y="21"/>
                  </a:moveTo>
                  <a:arcTo wR="10800" hR="10800" stAng="-5612811" swAng="5782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32" y="21"/>
                  </a:moveTo>
                  <a:arcTo wR="10800" hR="10800" stAng="-5612811" swAng="5782356"/>
                </a:path>
              </a:pathLst>
            </a:custGeom>
            <a:noFill/>
            <a:ln w="57240">
              <a:solidFill>
                <a:srgbClr val="fe00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9400" y="3133440"/>
              <a:ext cx="621000" cy="129960"/>
            </a:xfrm>
            <a:prstGeom prst="line">
              <a:avLst/>
            </a:prstGeom>
            <a:ln w="28440">
              <a:solidFill>
                <a:srgbClr val="0a50a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56520" y="2763720"/>
              <a:ext cx="41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a50a1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4612800">
              <a:off x="6653880" y="2556000"/>
              <a:ext cx="98388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9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9766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13320" y="336240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448600" y="4170240"/>
            <a:ext cx="3528720" cy="2998440"/>
            <a:chOff x="5448600" y="4170240"/>
            <a:chExt cx="3528720" cy="2998440"/>
          </a:xfrm>
        </p:grpSpPr>
        <p:grpSp>
          <p:nvGrpSpPr>
            <p:cNvPr id="312" name=""/>
            <p:cNvGrpSpPr/>
            <p:nvPr/>
          </p:nvGrpSpPr>
          <p:grpSpPr>
            <a:xfrm>
              <a:off x="6235560" y="4170240"/>
              <a:ext cx="631440" cy="1616040"/>
              <a:chOff x="6235560" y="4170240"/>
              <a:chExt cx="631440" cy="1616040"/>
            </a:xfrm>
          </p:grpSpPr>
          <p:sp>
            <p:nvSpPr>
              <p:cNvPr id="313" name=""/>
              <p:cNvSpPr/>
              <p:nvPr/>
            </p:nvSpPr>
            <p:spPr>
              <a:xfrm>
                <a:off x="6235560" y="4170960"/>
                <a:ext cx="0" cy="1615320"/>
              </a:xfrm>
              <a:prstGeom prst="line">
                <a:avLst/>
              </a:prstGeom>
              <a:ln w="3816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240600" y="4170240"/>
                <a:ext cx="626400" cy="1604880"/>
              </a:xfrm>
              <a:prstGeom prst="line">
                <a:avLst/>
              </a:prstGeom>
              <a:ln w="38160">
                <a:solidFill>
                  <a:srgbClr val="008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448600" y="4883400"/>
              <a:ext cx="16761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7" y="122"/>
                  </a:moveTo>
                  <a:arcTo wR="10800" hR="10800" stAng="-4883485" swAng="42086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7" y="122"/>
                  </a:moveTo>
                  <a:arcTo wR="10800" hR="10800" stAng="-4883485" swAng="4208622"/>
                </a:path>
              </a:pathLst>
            </a:custGeom>
            <a:noFill/>
            <a:ln w="28440">
              <a:solidFill>
                <a:srgbClr val="fe00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7360" y="5749920"/>
              <a:ext cx="210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000d"/>
                  </a:solidFill>
                  <a:latin typeface="Times New Roman"/>
                </a:rPr>
                <a:t>banking angle, </a:t>
              </a:r>
              <a:r>
                <a:rPr b="1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73160" y="2660760"/>
            <a:ext cx="4241880" cy="3298680"/>
            <a:chOff x="1073160" y="2660760"/>
            <a:chExt cx="4241880" cy="329868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1073160" y="2660760"/>
              <a:ext cx="424188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33840" y="5381640"/>
              <a:ext cx="13698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50a1"/>
                  </a:solidFill>
                  <a:latin typeface="Times New Roman"/>
                </a:rPr>
                <a:t>Turning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451800" y="3907440"/>
              <a:ext cx="1947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000d"/>
                  </a:solidFill>
                  <a:latin typeface="Times New Roman"/>
                </a:rPr>
                <a:t>Banking angle (degre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0:31:22Z</dcterms:created>
  <dc:creator>McDougal Littell</dc:creator>
  <dc:description/>
  <dc:language>en-US</dc:language>
  <cp:lastModifiedBy>y2k2pc</cp:lastModifiedBy>
  <dcterms:modified xsi:type="dcterms:W3CDTF">2000-04-03T19:13:53Z</dcterms:modified>
  <cp:revision>8</cp:revision>
  <dc:subject/>
  <dc:title>No Slide Title</dc:title>
</cp:coreProperties>
</file>